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BDB3E-2779-4E50-9DF3-369F9D697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D8EBD-FA06-4BA8-9F37-F5880B374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DFF03-3DB2-4E96-AE2D-8BC6A34EE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C3356-2D24-4727-941A-417EF3EF0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77A1C-FA88-40FD-A381-09E39BF7C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62391-D92D-4BC4-AC03-F60ADE0CD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B5096-9556-4256-8751-A13D86262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DCB90-FB07-4063-A805-9584BFCDA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AADE2-D4BB-41A3-919A-B764FDBC1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A561E-E576-4098-B930-E8B8D2569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FFDC2-1AC4-4930-B9F3-4E8938B1D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10590-C2C3-4820-B437-781217369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36025-B8F9-4C03-B0CB-FE893DCF9F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Times New Roman"/>
              </a:rPr>
              <a:t>Медицина</a:t>
            </a:r>
            <a:r>
              <a:rPr b="0" lang="it-IT" sz="4400" spc="-1" strike="noStrike">
                <a:solidFill>
                  <a:srgbClr val="000000"/>
                </a:solidFill>
                <a:latin typeface="Times New Roman"/>
              </a:rPr>
              <a:t> заснована на доказима </a:t>
            </a:r>
            <a:r>
              <a:rPr b="0" lang="sr-CS" sz="4400" spc="-1" strike="noStrike">
                <a:solidFill>
                  <a:srgbClr val="000000"/>
                </a:solidFill>
                <a:latin typeface="Times New Roman"/>
              </a:rPr>
              <a:t>– 7. недељ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проф. др Слободан Јанковић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4"/>
          <p:cNvSpPr/>
          <p:nvPr/>
        </p:nvSpPr>
        <p:spPr>
          <a:xfrm>
            <a:off x="1468080" y="3018960"/>
            <a:ext cx="677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000000"/>
                </a:solidFill>
                <a:latin typeface="Times New Roman"/>
              </a:rPr>
              <a:t>ВАЛИДНОСТ СИСТЕМАТСКИХ ПРЕГЛЕД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Да</a:t>
            </a:r>
            <a:r>
              <a:rPr b="0" lang="it-IT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ли</a:t>
            </a:r>
            <a:r>
              <a:rPr b="0" lang="it-IT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је</a:t>
            </a:r>
            <a:r>
              <a:rPr b="0" lang="it-IT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систематски</a:t>
            </a:r>
            <a:r>
              <a:rPr b="0" lang="it-IT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преглед</a:t>
            </a:r>
            <a:r>
              <a:rPr b="0" lang="it-IT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валидно</a:t>
            </a:r>
            <a:r>
              <a:rPr b="0" lang="it-IT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урађен</a:t>
            </a:r>
            <a:r>
              <a:rPr b="0" lang="it-IT" sz="40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Да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ли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систематски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реглед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обухвата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контролисане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рандомизиране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клиничке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студије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Да ли има одељак “МЕТОД у коме се описује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Да ли су пронађене све релевантне студије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Да ли је оцењена валидност сваке од укључених студија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Да ли су резултати конзистентни од студије до студије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40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Times New Roman"/>
              </a:rPr>
              <a:t>Како се утврђује конзистентност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Помоћу “шума графика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tel-Haenzel-Peto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 –вим тестом, који даје већу тежину студијама са мањом варијабилношћу резултат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Да</a:t>
            </a:r>
            <a:r>
              <a:rPr b="0" lang="it-IT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ли</a:t>
            </a:r>
            <a:r>
              <a:rPr b="0" lang="it-IT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су</a:t>
            </a:r>
            <a:r>
              <a:rPr b="0" lang="it-IT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резултати</a:t>
            </a:r>
            <a:r>
              <a:rPr b="0" lang="it-IT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систематског</a:t>
            </a:r>
            <a:r>
              <a:rPr b="0" lang="it-IT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прегледа</a:t>
            </a:r>
            <a:r>
              <a:rPr b="0" lang="it-IT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клинички</a:t>
            </a:r>
            <a:r>
              <a:rPr b="0" lang="it-IT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значајни</a:t>
            </a:r>
            <a:r>
              <a:rPr b="0" lang="it-IT" sz="40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На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ово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итање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се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одговара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анализом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ННТ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umber Needed to Treat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)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Видети</a:t>
            </a:r>
            <a:r>
              <a:rPr b="1" i="1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презентацију</a:t>
            </a:r>
            <a:r>
              <a:rPr b="1" i="1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о</a:t>
            </a:r>
            <a:r>
              <a:rPr b="1" i="1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евалуацији</a:t>
            </a:r>
            <a:r>
              <a:rPr b="1" i="1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клиничких</a:t>
            </a:r>
            <a:r>
              <a:rPr b="1" i="1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студија</a:t>
            </a:r>
            <a:r>
              <a:rPr b="1" i="1" lang="it-IT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Да ли се резултати систематског прегледа могу применити на нашем пацијенту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То зависи од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Степена сличности нашег пацијента са пацијентима из систематског преглед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Критеријума за укључивање и искључивање у клиничким студијама којима се бавио систематски прегле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Другим контролисаним условима клиничких студија којима се бавио систематски прегле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0T21:18:48Z</dcterms:created>
  <dc:creator>Slobodan Jankovic</dc:creator>
  <dc:description/>
  <dc:language>en-US</dc:language>
  <cp:lastModifiedBy>Slobodan Jankovic</cp:lastModifiedBy>
  <dcterms:modified xsi:type="dcterms:W3CDTF">2014-07-12T17:27:40Z</dcterms:modified>
  <cp:revision>60</cp:revision>
  <dc:subject/>
  <dc:title>Slide 1</dc:title>
</cp:coreProperties>
</file>